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C76-FD31-4928-B1A0-AA8670453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4BB1-F353-4B2F-A18F-4526C155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08B-7115-4ABB-BF44-9796C23D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AC5-EA5C-44F8-8EE1-2E4F7FD1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D25-704F-4525-9D6A-20C2B4C9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FFD-8252-43D2-A784-1A0C0CA1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6E74-8094-40A0-9235-F9C59F0D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9ADC-CF0A-4031-A7C2-19FDCFB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496-98D9-465D-914E-49DF899E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AA7-5F2E-4648-9382-595173FC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2F0-E0B6-4CA0-B47B-3950759A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981-C959-4B8A-9B11-DFA4092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1B7B-CE75-4BD0-AA9F-2CAC0AD1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E89-48E0-4029-9F0F-188BCB88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9814-195D-4043-A093-D2C1096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1E54-0FCC-42C4-9E0A-B576DE8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EE39-3B73-4DB3-9F81-E4036517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35D-84F9-4AFA-8A7E-255F3B98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035E-3CCE-46DC-B859-3A6852B2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29F-ADEA-4EC2-94EA-9C04D77B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B3D-4D68-40FD-BA82-5F1A8F6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D4F-938D-48C9-8D00-638AE6B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21E-0D07-4DFF-95C0-35AF1266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235-3BFD-4D0C-B391-B30A7D7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8F3-49B0-41EB-9393-E5B6BDF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34A-7BE4-4D93-8861-F919F8F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04BE-1E1E-4F07-8189-A859AF2F8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D41E-7F50-4B80-BE97-69B735F9F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emical Reactions and Enzy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emical Reactions and Enzy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B05A-07C5-4F2C-A7DC-9C230C3F2D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8D4-510E-4511-8363-1BB3D66D5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 Chemical Re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Activation Energ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 that release energy do not always occur spontaneous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that is needed to get a reaction started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ion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Activation Energ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eak of each graph represents the energy needed for the reaction to go forwa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ion energy is involved in chemical reactions whether or not the overall reaction releases or absorbs ener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E:\LESSON OVRVW batch 3\art\BIO10NAE_01_02_05_005_LRIM_02.png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chemical reactions are too slow or have activation energies that are too high to make them practical for living tiss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se chemical reactions are made possible by catalysts.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 substance that speeds up the rate of a chemical re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s work by lowering a reaction’s activation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Nature’s Catalyst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proteins that act as biological catalysts. They speed up chemical reactions that take place in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act by lowering the activation energies, which has a dramatic effect on how quickly reactions are complet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E:\LESSON OVRVW batch 3\art\BIO10NAE_01_02_05_005_LRIM_03.png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Nature’s Catalyst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zymes are very specific, generally catalyzing only one chemical re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of an enzyme’s name is usually derived from the reaction it catalyz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bonic anhydrase gets its name because it also catalyzes the reverse reaction that removes water from carbonic ac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Enzyme-Substrate Complex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or a chemical reaction to take place, the reactants must collide with enough energy so that existing bonds will be broken and new bonds will be form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f the reactants do not have enough energy, they will be unchanged after the collis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nzymes provide a site where reactants can be brought together to react. Such a site reduces the energy needed for reac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Enzyme-Substrate Complex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actants of enzyme-catalyzed reaction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r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xample, the enzyme carbonic anhydrase converts the substrates carbon dioxide and water into carbonic acid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E:\LESSON OVRVW batch 3\art\BIO10NAE_01_02_05_005_LRIM_04.png"/>
          <p:cNvPicPr/>
          <p:nvPr/>
        </p:nvPicPr>
        <p:blipFill>
          <a:blip r:embed="rId1"/>
          <a:stretch/>
        </p:blipFill>
        <p:spPr>
          <a:xfrm>
            <a:off x="5334120" y="1523880"/>
            <a:ext cx="355572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Enzyme-Substrate Complex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2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substrates bind to a site on the enzyme called the active si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active site and the substrates have complementary shap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fit is so precise that the active site and substrates are often compared to a lock and ke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E:\LESSON OVRVW batch 3\art\BIO10NAE_01_02_05_005_LRIM_05.png"/>
          <p:cNvPicPr/>
          <p:nvPr/>
        </p:nvPicPr>
        <p:blipFill>
          <a:blip r:embed="rId1"/>
          <a:stretch/>
        </p:blipFill>
        <p:spPr>
          <a:xfrm>
            <a:off x="952560" y="4724280"/>
            <a:ext cx="7238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gulation of Enzyme Activit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erature and pH are both factors that can affect the activity of enzy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produced by human cells generally work best at temperatures close to 37°C (98.6°F), the normal temperature of the human bod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work best at certain pH values. For example, the stomach enzyme pepsin, which begins protein digestion, works best under acidic condi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ach polymer list what its composed of (monom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bohyd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cleic Aci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the function of an enzyme or cataly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how chemical reactions affect chemical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emical Re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 a process that changes, or transforms, one set of chemicals into another by changing the chemical bonds that join atoms in compoun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s and energy are conserved during chemical reac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lements or compounds that enter into a chemical reaction are known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actan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lements or compounds produced by a chemical reaction are known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Chang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ergy is released or absorbed whenever chemical bonds are formed or broken during chemical reac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ergy changes are one of the most important factors in determining whether a chemical reaction will occu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 that release energy often occur on their own, or spontaneous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 that absorb energy will not occur without a source of ener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Chang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xample of an energy-releasing reaction is the burning of hydrogen gas, in which hydrogen reacts with oxygen to produce water vap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is released in the form of heat, and sometimes—when hydrogen gas explodes—light and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6"/>
          <p:cNvPicPr/>
          <p:nvPr/>
        </p:nvPicPr>
        <p:blipFill>
          <a:blip r:embed="rId1"/>
          <a:stretch/>
        </p:blipFill>
        <p:spPr>
          <a:xfrm>
            <a:off x="1752480" y="3124080"/>
            <a:ext cx="4608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Chang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verse reaction, in which water is changed into hydrogen and oxygen gas, absorbs so much energy that it generally doesn’t occur by itself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2H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O + Energy </a:t>
            </a:r>
            <a:r>
              <a:rPr b="0" lang="pt-B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2 H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+  O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one direction the reaction produces energy, and in the other direction the reaction requires ener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Sourc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rganism must have a source of energy to carry out the chemical reactions it needs to stay ali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ts get their energy by trapping and storing the energy from sunlight as glucose (chemical energy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ls get their energy when they consume plants or other anim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s release the energy from food during chemical reactions that occur when we metabolize, or break down, digested f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8:50:32Z</dcterms:created>
  <dc:creator>Alex</dc:creator>
  <dc:description/>
  <dc:language>en-US</dc:language>
  <cp:lastModifiedBy>dzahm</cp:lastModifiedBy>
  <dcterms:modified xsi:type="dcterms:W3CDTF">2013-10-03T18:18:42Z</dcterms:modified>
  <cp:revision>95</cp:revision>
  <dc:subject/>
  <dc:title>Slide 1</dc:title>
</cp:coreProperties>
</file>